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311-8553-4905-BA98-B24555A4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17F-6A62-4F1C-8CB2-6FFDF8F4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DB3-3864-45CB-A820-0E327081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30D-CCC6-49E5-A9C8-CEE58C45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4095-24B6-4C98-A61D-B56218A1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3C92-4D60-4DA3-8AF6-D0815A43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5BEE-8BEF-459A-B51D-1DB718F7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D35A-994B-4AFE-9732-6622B5D4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D0F5-9E7D-4A3F-B8FE-C6A05B31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085D-0024-497C-8E22-570AAC93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66E2-03A2-40BE-8877-E9BB0518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5D70-DCEC-443D-B5B3-8BFC582E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4B91-BC40-43B6-8DB6-FBADE321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FD75-9D06-42FB-97D9-DD60F592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DF68-C391-4C34-88B3-2BE49264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2E27-267B-47EC-8346-603B927B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234C-5574-4570-ACD7-F4D96DAB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682-DDFC-4E26-8E63-D93E0DA6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16D-8C47-41B5-BEE9-32BF6F2E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6F2-7D15-4769-82FD-10EBF4F7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7DF-DC9B-4C9C-A2A1-824066A4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FD0-0E79-407A-8F55-0E314E0C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111-1C8A-4D26-AF8A-8894289C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BC8-662F-444C-B64D-086782F8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9EE9-8F38-4ED2-81B5-1434562955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AEA8-EFE6-425A-BFE0-5FD184AC6A0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38188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Propósito#6 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paso para el exame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527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fecha es el 04 de octubre del 20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 compras Lo, la, las, l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076960" cy="5181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447920" y="6172200"/>
            <a:ext cx="632448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4560" y="48006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23600" y="4800600"/>
            <a:ext cx="4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94840" y="48006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5840" y="480060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-Ar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8800" y="152280"/>
            <a:ext cx="664236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finitivos/Infinitiv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219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finitivos are verbs that do not have a subject. In English they begin with the word “TO”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400800" y="2895480"/>
            <a:ext cx="1638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 WOR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47920" y="4800600"/>
            <a:ext cx="1981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o stud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5880" y="5029200"/>
            <a:ext cx="2210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 Spea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0880" y="3429000"/>
            <a:ext cx="221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>
                        <a:alpha val="64313"/>
                      </a:srgbClr>
                    </a:gs>
                    <a:gs pos="100000">
                      <a:srgbClr val="7575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o finish</a:t>
            </a:r>
            <a:endParaRPr b="0" lang="en-US" sz="1800" spc="1" strike="noStrike">
              <a:ln w="9360">
                <a:solidFill>
                  <a:srgbClr val="00ff00"/>
                </a:solidFill>
                <a:prstDash val="sysDot"/>
                <a:miter/>
              </a:ln>
              <a:gradFill rotWithShape="0">
                <a:gsLst>
                  <a:gs pos="0">
                    <a:srgbClr val="ffff00">
                      <a:alpha val="64313"/>
                    </a:srgbClr>
                  </a:gs>
                  <a:gs pos="100000">
                    <a:srgbClr val="7575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733920" y="3886200"/>
            <a:ext cx="2666880" cy="1181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20000"/>
                    </a:gs>
                    <a:gs pos="100000">
                      <a:srgbClr val="ff0000"/>
                    </a:gs>
                  </a:gsLst>
                  <a:lin ang="13500000"/>
                </a:gradFill>
                <a:latin typeface="Arial Black"/>
              </a:rPr>
              <a:t>To s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20000"/>
                  </a:gs>
                  <a:gs pos="100000">
                    <a:srgbClr val="ff000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8800" y="152280"/>
            <a:ext cx="664236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finitives/Infinitivo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2193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 Spanish, all verbs end  in        ar, -er, (or) -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400800" y="2895480"/>
            <a:ext cx="2057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abaja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447920" y="4800600"/>
            <a:ext cx="1981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studia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5880" y="5029200"/>
            <a:ext cx="2210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bla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720" y="2895480"/>
            <a:ext cx="205740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>
                        <a:alpha val="64313"/>
                      </a:srgbClr>
                    </a:gs>
                    <a:gs pos="100000">
                      <a:srgbClr val="7575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Terminar</a:t>
            </a:r>
            <a:endParaRPr b="0" lang="en-US" sz="1800" spc="1" strike="noStrike">
              <a:ln w="9360">
                <a:solidFill>
                  <a:srgbClr val="00ff00"/>
                </a:solidFill>
                <a:prstDash val="sysDot"/>
                <a:miter/>
              </a:ln>
              <a:gradFill rotWithShape="0">
                <a:gsLst>
                  <a:gs pos="0">
                    <a:srgbClr val="ffff00">
                      <a:alpha val="64313"/>
                    </a:srgbClr>
                  </a:gs>
                  <a:gs pos="100000">
                    <a:srgbClr val="7575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733920" y="3886200"/>
            <a:ext cx="2666880" cy="1181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20000"/>
                    </a:gs>
                    <a:gs pos="100000">
                      <a:srgbClr val="ff0000"/>
                    </a:gs>
                  </a:gsLst>
                  <a:lin ang="13500000"/>
                </a:gradFill>
                <a:latin typeface="Arial Black"/>
              </a:rPr>
              <a:t>Cant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20000"/>
                  </a:gs>
                  <a:gs pos="100000">
                    <a:srgbClr val="ff000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onjugating Verb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 Spanish, we take off the -ar, -er, or –ir ending and add special 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Comic Sans MS"/>
              </a:rPr>
              <a:t>endings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 according to the subject of the sentence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Cojugate the Verbos -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1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Comic Sans MS"/>
              </a:rPr>
              <a:t>TERMINA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11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Comic Sans MS"/>
              </a:rPr>
              <a:t>HABLA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11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Comic Sans MS"/>
              </a:rPr>
              <a:t>TRABAJA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11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Comic Sans MS"/>
              </a:rPr>
              <a:t>ESTUDIA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11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Comic Sans MS"/>
              </a:rPr>
              <a:t>ENSE</a:t>
            </a:r>
            <a:r>
              <a:rPr b="0" lang="en-US" sz="4800" spc="-1" strike="noStrike">
                <a:solidFill>
                  <a:srgbClr val="990099"/>
                </a:solidFill>
                <a:latin typeface="Comic Sans MS"/>
                <a:ea typeface="Arial"/>
              </a:rPr>
              <a:t>Ñ</a:t>
            </a:r>
            <a:r>
              <a:rPr b="0" lang="en-US" sz="4800" spc="-1" strike="noStrike">
                <a:solidFill>
                  <a:srgbClr val="990099"/>
                </a:solidFill>
                <a:latin typeface="Comic Sans MS"/>
              </a:rPr>
              <a:t>A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11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Comic Sans MS"/>
              </a:rPr>
              <a:t>NECESITA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Comic Sans MS"/>
              </a:rPr>
              <a:t>To Fin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Comic Sans MS"/>
              </a:rPr>
              <a:t>To Spea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Comic Sans MS"/>
              </a:rPr>
              <a:t>To 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Comic Sans MS"/>
              </a:rPr>
              <a:t>To Stu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Comic Sans MS"/>
              </a:rPr>
              <a:t>To Te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Comic Sans MS"/>
              </a:rPr>
              <a:t>To Ne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u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lla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t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5809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sotros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sotros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l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las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te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743200" y="1600200"/>
            <a:ext cx="457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743200" y="2819520"/>
            <a:ext cx="533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743200" y="4572000"/>
            <a:ext cx="533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010280" y="4572000"/>
            <a:ext cx="838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934320" y="160020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086600" y="2666880"/>
            <a:ext cx="83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ái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76520" y="457200"/>
            <a:ext cx="562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DINGS for AR Verb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eta </a:t>
            </a:r>
            <a:br>
              <a:rPr sz="4400"/>
            </a:b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Un regalo que le gustó.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Complet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Compré un regalo para Teresa. ____ compre en la tienda de departamentos Corte Inglés. Compré unos anteojos de sol. A Teresa le gustaron mucho. Ella _____ llevó el toro día cuando fue a la piscina. Ella tiene algunas fotografías con sus anteojos de sol. Su amigo Miguel ____ tomó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81680" y="304812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5382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eta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es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Invitaste a Juan a la fiest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Invitaste a Alejandr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Compraste los refresco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Preparaste la ensalad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Tomó Pepe las fotografías de la fiesta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4432680" y="3246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ctividad inci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dff"/>
                </a:solidFill>
                <a:latin typeface="Comic Sans MS"/>
              </a:rPr>
              <a:t>Take active no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et's review the rules for making nouns plur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 noun ends in 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ow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simply add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-s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 noun ends in 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sona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simply add 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s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 noun ends in 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-z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hange th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fore adding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-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 noun ends i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ó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drop the written accent before adding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-es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e plural refers to a mixed group, use the masculin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compound nouns, change "el" to "los"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y for tes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inue to research Mayan cul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the plural refers to two or more nouns of different genders, the masculine plural is us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perros + 6 perras = 8 perros (not per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gato + 8 gatas = 9 gatos (not ga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few nouns are "compound nouns," that is, they are formed by combining two words into 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ample: abre + latas = abrelatas / open + cans = can open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compound nouns are always masculine, and the plural is formed by changing the "el" to "los."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abrelat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s abrelat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ragu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s paragu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-17028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600" spc="-1" strike="noStrike">
                <a:solidFill>
                  <a:srgbClr val="000000"/>
                </a:solidFill>
                <a:latin typeface="Comic Sans MS"/>
              </a:rPr>
              <a:t>Copia y pon un circulo en la respuesta correcta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biarlo a su forma plural 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 'el doctor alemán'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s doctores aleman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 doctores alemá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 doctores aleman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) 'un plan difícil'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 plan difíci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os planes difíci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as planes difícil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) 'el chico inglés'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 chicos ingle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 chicos inglé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 chico ingle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) 'la nación grande'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s naciones gran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s naciones gran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nación gran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880" y="676440"/>
            <a:ext cx="7696440" cy="5190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447920" y="5410080"/>
            <a:ext cx="601956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696080" cy="5562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00200" y="5562720"/>
            <a:ext cx="594360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api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---------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n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api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miseta --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n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miseta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1981080"/>
            <a:ext cx="7543800" cy="359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actica los pronombre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28240"/>
            <a:ext cx="76960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contraste el libro? = No, no _____________________ encontré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Terminaste la composición? = No, no _____________________ terminé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Tienes un lápiz? = No, no _____________________ teng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abes la respuesta? = No, no _____________________ sé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ieres pizza? = Sí, _____________________ quier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ediste el coche? = Sí, _____________________ ped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onoces a Juan? = Sí, _____________________ conozc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Miraste el programa? = No, no _____________________ miré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s a cocinar el plato? = Sí, _____________________ voy a cocina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21:08:11Z</dcterms:created>
  <dc:creator>NYCDOE</dc:creator>
  <dc:description/>
  <dc:language>en-US</dc:language>
  <cp:lastModifiedBy>NYCDOE</cp:lastModifiedBy>
  <dcterms:modified xsi:type="dcterms:W3CDTF">2012-10-04T21:11:24Z</dcterms:modified>
  <cp:revision>23</cp:revision>
  <dc:subject/>
  <dc:title>Propósito#54   Los pronombres, lo, la, los, las (Objeto directo)</dc:title>
</cp:coreProperties>
</file>